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5 + 2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5Q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5 + 5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Q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00120" y="312840"/>
            <a:ext cx="518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expression match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ve more than two times Q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4673520" y="58323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Plus 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3520" y="6095880"/>
            <a:ext cx="29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Minus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ivision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 expression does not have a(n)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4691160" y="47563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-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1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 x 2 – 3 + 9 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4678200" y="47703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3 – 7 ) / (-2) + 4 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206280" y="480708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49440" y="932040"/>
            <a:ext cx="5181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 / 6 = -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 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6" name=""/>
          <p:cNvSpPr/>
          <p:nvPr/>
        </p:nvSpPr>
        <p:spPr>
          <a:xfrm>
            <a:off x="231840" y="586728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85800" y="1203480"/>
            <a:ext cx="5181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X/2) + 7 = 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 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1" name=""/>
          <p:cNvSpPr/>
          <p:nvPr/>
        </p:nvSpPr>
        <p:spPr>
          <a:xfrm>
            <a:off x="4641840" y="4768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85800" y="1203480"/>
            <a:ext cx="5181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R – 21) x 3 = 1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 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4654440" y="584208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4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85800" y="1203480"/>
            <a:ext cx="5181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G + 3) x (-7) = -8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 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8" name=""/>
          <p:cNvSpPr/>
          <p:nvPr/>
        </p:nvSpPr>
        <p:spPr>
          <a:xfrm>
            <a:off x="216000" y="58561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36480" y="325440"/>
            <a:ext cx="518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Erin divides 56 pieces of candy among Y friends.  If each friend has eight pieces of candy,  will each friend ha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3" name=""/>
          <p:cNvSpPr/>
          <p:nvPr/>
        </p:nvSpPr>
        <p:spPr>
          <a:xfrm>
            <a:off x="4641840" y="47941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49 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26 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64 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46 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9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98320" y="325440"/>
            <a:ext cx="5181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vin read three more than twice as many books as  his sister.  If Kevin’s sister read 23 books, how many books did he rea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8" name=""/>
          <p:cNvSpPr/>
          <p:nvPr/>
        </p:nvSpPr>
        <p:spPr>
          <a:xfrm>
            <a:off x="257040" y="476892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-31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-4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4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3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3 – 8 x 7) (-7 – 2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3" name=""/>
          <p:cNvSpPr/>
          <p:nvPr/>
        </p:nvSpPr>
        <p:spPr>
          <a:xfrm>
            <a:off x="4592520" y="476892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4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2 + 18 / 3) / (-7 + 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58" name=""/>
          <p:cNvSpPr/>
          <p:nvPr/>
        </p:nvSpPr>
        <p:spPr>
          <a:xfrm>
            <a:off x="4654440" y="584532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0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1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9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7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6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4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1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9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7" name="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6095880"/>
            <a:ext cx="31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lowest order of operations is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654440" y="479412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3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2 /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5 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-2 /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03480"/>
            <a:ext cx="5181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do I do firs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+ 5 - 2 /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641840" y="58323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-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-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 – (+6) =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4678200" y="584532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 Renee Sakos</cp:lastModifiedBy>
  <dcterms:modified xsi:type="dcterms:W3CDTF">2007-07-18T22:29:42Z</dcterms:modified>
  <cp:revision>23</cp:revision>
  <dc:subject/>
  <dc:title>No Slide Title</dc:title>
</cp:coreProperties>
</file>